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622-C0BC-46BA-AE88-6885C5BE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626-1A87-47F8-93AF-BF52D84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E0B-1384-4DAC-B8B3-870AB530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003-4390-42F7-8E5C-C916E6AF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C1B5-C4D0-44D2-AE96-B172CF1D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99BF-4AF8-4F8C-BD47-F75B1D3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76EC-C245-4B07-B602-4AB3E7F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A24-A42B-4F69-8371-CAFB354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A9B-50D6-4B90-A7A0-6C5450A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46F8-4357-4DAA-AAF7-B800491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3BA-8EEB-42C4-BFC4-114CA04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EFC-09FB-4929-ADBF-0CFF8EA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A927-F6E9-4906-BA75-8EC737D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0993-DC09-4235-A40F-DBA0761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FD9-2CC2-4AE3-BD05-1BD0C829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432D-E53C-4AA6-AAC1-4FF61A86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53A-5436-42BB-9AA3-8A920947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D13-7F52-444A-AF38-C9F202D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97D-A4EF-492D-9C48-FA8D4C6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A73-494B-4998-952D-086124E9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32B-CB7E-4E90-B116-9BDD8FD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FE3-472C-4317-AE13-30669EF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B0B-A392-4119-80E3-298F483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23D-E9BA-4C4A-858A-6ACD6B9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/>
              <a:ahLst/>
              <a:rect l="l" t="t" r="r" b="b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/>
              <a:ahLst/>
              <a:rect l="l" t="t" r="r" b="b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9AD-500F-4225-8017-2190138CD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/>
              <a:ahLst/>
              <a:rect l="l" t="t" r="r" b="b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/>
              <a:ahLst/>
              <a:rect l="l" t="t" r="r" b="b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80C2-C29C-4EE2-B13C-20B1C2509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3:04Z</dcterms:modified>
  <cp:revision>15</cp:revision>
  <dc:subject/>
  <dc:title>幻灯片 1</dc:title>
</cp:coreProperties>
</file>